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C69-5F45-401D-97FD-F86538A1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3FE-D8E4-4851-B808-DE9E94EE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0A0-6509-44CF-B425-90F6DCDC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77A-C5C3-45DB-8D79-A067134B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3760E-E151-4526-AAF9-B5F02DE7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7C934-A9BC-48E1-BE8B-9BA7B1D4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2747C-52BA-43E9-9575-E9D33F68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53528-EBF5-4836-BD07-33D64664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F8FCB-F1F7-4FF0-87E0-F055F4BF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31497-A45C-4AE3-A4A0-C2B63D12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DA18D-8DB8-48DD-8833-84D2FAB3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F62-8FCE-4CB2-A65B-5A80FE4C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3ABF1-B6C0-4C21-B0C2-4F4B9BA8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05B8A-C0EB-4CB1-AD06-0588C01B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742B0-21CB-49D8-A1DB-9E7AC5E4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BD352-1E15-4CD8-B3E0-E4A9EFF0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38732-E275-4FF6-912D-48AA93C2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0C8-D2D9-45EA-AA93-A915E531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5A7-2D42-456F-81D6-230C740D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B13-0C84-4931-AEB4-8C9C0FBA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49D-A8BB-4CEE-957E-A9DA6E41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2FF-23C9-4076-9F62-86D368C3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CC9-ABB1-4DA9-AA58-58DEB07E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A66-24A7-4A7D-B383-D9F1983E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B0DA-E0EB-44EF-B8F1-789A0FB964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BA6B-520E-4D37-AEF9-1651AD5069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раздник.</a:t>
            </a:r>
            <a:br>
              <a:rPr sz="44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Встречай с любовью птичьи . ста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привитие любви к родной природе, воспитание чувства сострадания к братьям нашим меньшим, возрождение народных тради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09680" y="4419720"/>
            <a:ext cx="2895840" cy="1719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1494000" cy="273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666880" y="2895480"/>
            <a:ext cx="2014560" cy="1274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172200" y="3352680"/>
            <a:ext cx="2971800" cy="3164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Перелётные птицы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лётные птицы прилетают на Род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то подпевает перелётным птица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прилетает к нам перв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494000" cy="2730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29400" y="3733920"/>
            <a:ext cx="1136520" cy="1911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укушк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 весенний лес вес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оржественно встреча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лдунья серая в ле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ердно годы нам веща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умит листва. Лучится с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у-ку! А сколько в веке л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ну, кто первый даст отв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3-18T23:08:4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